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6D80-8CAC-4775-9BBB-FEE8E6FB3C3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9EBB-B94D-4FAF-B215-4FDF860199B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1A34-2B4A-4A6E-BE8E-A6470982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2BDE-137F-4597-92B0-72C34CF7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EAA5-97A0-4A2C-99D5-3A059706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DEF-4EA3-4AE5-B2F9-57A08F85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7D2D-7D61-4217-838E-3B147AC0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127E-B7EE-49AE-A492-B9C9757E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B95-7BC3-43FB-8CA4-F6DB249E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3EBF-4D9C-4566-A07A-EE0A3197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5C5-4BF8-4B17-9928-03924D9D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2B4F-3283-4FB6-A277-F5122597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4DB5-E88F-4A97-B95F-B0EFB489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5920-B5C3-41F0-9E49-6EDADA1A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039B-D753-49E4-8B5C-D11641BF62D2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Клиничка фармација 1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Г03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редавање бр. 6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Основни биохемијски параметри, дијагностичке  методе и тестови </a:t>
            </a:r>
            <a:r>
              <a:rPr b="1" lang="sr-Latn-C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доц. др Срђан Стефановић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Прокалцитонин (ПЦТ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Пептидни прекурсор калцито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У серуму здравих особ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0.01 µ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Ниво ПЦТ расте код бактеријске, али не и вирусне инфекције, односно неинфективних обољ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У бактеријској сепси - више стотина једи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За разлику од ЦРП показује већу сензитивност за бактеријске инфекције, вредности му се брже враћају на референтне и има мањи распон референтних концентр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Додатна предност - смањује непотребну примену антибиотика, чиме побољшава непосредне здравствене и економске исх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Промене у броју леукоци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3840" indent="-393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спитивање леукоцита (белих крвних зрнаца) обухв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дређивање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укупног бро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у 1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ml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крви (нормално код одраслих ≈ 4-10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x 10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/l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већи код деце)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дређивање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леукоцит(ар)не формул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апсолутни број и процентуална заступљеност појединих вр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392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Неутрофил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≈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44 – 72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392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Лимфоцит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≈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20 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46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392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Моноцит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≈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2 – 12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392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Еозинофил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 ≈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0 - 7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392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Базофил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 ≈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0 – 1 %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утрофили, еозинофили и базофили =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гранулоц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УКОЦИТОЗА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»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ораст броја леукоцита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523880"/>
          <a:ext cx="9144000" cy="5913720"/>
        </p:xfrm>
        <a:graphic>
          <a:graphicData uri="http://schemas.openxmlformats.org/drawingml/2006/table">
            <a:tbl>
              <a:tblPr/>
              <a:tblGrid>
                <a:gridCol w="2292480"/>
                <a:gridCol w="2471760"/>
                <a:gridCol w="2330280"/>
                <a:gridCol w="2049480"/>
              </a:tblGrid>
              <a:tr h="76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трофилиј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Лимфоцитоз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Моноцитоз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Еозинофилиј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5076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●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кутне бактеријске инфекциј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●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Гљивичне и неке инфекције протозоама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иф. дијагностички: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нфаркт срца и др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вреде, опекотин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Еклампсија, Ак. гихт, Уремија, Синд. Кушинг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Леукемије, полицитемиј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нтоксикациј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ушачи, гојазне особ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Лекови: КС, ОК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●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кутне вирусне и неке бактеријске инфекциј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●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убакутне и хроничне инфекциј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C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иф. </a:t>
                      </a:r>
                      <a:r>
                        <a:rPr b="0" i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јагностички</a:t>
                      </a:r>
                      <a:r>
                        <a:rPr b="0" i="1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Леукемије, лимфом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●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еке бактериј. инфекције 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ТБЦ, СБЕ, бруцелоза, тифус и др.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●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нфекције протозоам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●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еке вирусне инфекције 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М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C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ф. дијагностички: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Малигна обољењ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ЛЕ, Улцерозни колитис, М. Крон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●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аразитарне инфекциј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ф. дијагностички: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лергијске реакциј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еке кожне боле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ека малигна обољењ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Еозинофилни синдром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Леукоцит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10120" indent="-510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"Леукемоидна реакција": вишеструко повећање укупног броја леукоцита у крви (и до неколико десетина хиљада), са појавом млађих, незрелих облика у периферном разма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0120" indent="-510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Гранулоцитног типа: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тешке бактеријске инфекције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(сепса), тешка крвављења, опекотине, тровања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0120" indent="-510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имфоцитног типа: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кутне вирусне инфекције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(ИМ, осипне грознице и сл.),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велики кашаљ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, нека кожна обољења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0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0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Друге промене у крвној слици као последица инфек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Тешке бактеријске и вирусне инфекц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могу бити компликоване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ЛЕУКОПЕНИЈО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ТРОМБОЦИТОПЕН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НЕМ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смањење концентрације хемоглобина и масе еритроцита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ЕМОЛИТИЧКА (бактерије, вируси, протоз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д хроничних инфекција јавља се тзв. АНЕМИЈА ХРОНИЧН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Повећан ХЕМАТОКРИТ: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наци хемоконцентрације код великог губитка течности (повраћање, пролив, знојење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Анализе у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Уринарне 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акроскопски: замућена мокраћа (Ле, Ер, Бакт., Пр.), непријатног ми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азна реакција у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леукоцитур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седимент ур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ормално &lt;5 Ле у видном пољу под микроскоп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ко има &gt;100 у видном пољу - пи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бактериуриј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нормално нема бактерија у урин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словно: &gt; 100 000/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l –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начајна; &lt;10000/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l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– вероватно контаминац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Анализе у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Уринарне инфекције (настава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протеинуриј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ормално до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150 mg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/ 24 сат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ерење семиквантитативно (0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±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+, ++, +++, ++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вантитативно одређивање (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g/l) – Esb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еритроцитурија/хематуриј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седиме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езначајно: 1-3 Ер у видном пољ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икрохематурија: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&lt;1 ml/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ри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-20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Ер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 видном пољ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акрохематуриј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&gt;1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ml/l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рина или &gt;20 Ер у видном пољ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еукоцитни и др. цилиндри у седименту (ћелије + протеи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Анализе у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нфекције других органа/Системска инфекција (сеп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лигурија (дехидратација, оштећење бубрежне функ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иперстенурија (повећана специфична тежина урина: &gt;1030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g/ml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) – дехидратација, протеин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отеинурија (повишена телесна температура, хиперкатаболизам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штећење бубрег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емоглобинурија, билирубинурија, уробилиноген/уробилин у мокраћи (хемолиза, хепатоцелуларно оштећење-хепатити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Параметри кардиоваскуларног риз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Метаболички синдром</a:t>
            </a:r>
            <a:r>
              <a:rPr b="0" lang="sr-Latn-CS" sz="4400" spc="-1" strike="noStrike">
                <a:solidFill>
                  <a:srgbClr val="000000"/>
                </a:solidFill>
                <a:latin typeface="Comic Sans MS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ртеријска хипертен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Гојазност (централ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ремећај толеранције глукозе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инсулинска резистенциј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(Д. М. тип 2,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FG, IG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ислипидемија (Хиперлипопротеинемиј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ВЕЋАН РИЗИК ЗА АТЕРОСКЛЕРОЗУ И ЊЕНЕ КОМПЛИКАЦИЈЕ (ИБС, ЦВИ, ХСИ, напрасна срчана смрт, ПВ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"Мртвачки квартет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Синдром инфекц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Дијабетес</a:t>
            </a:r>
            <a:r>
              <a:rPr b="0" lang="sr-Latn-C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мелит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Ризик од хроничних микро и макроваскуларних компликација повећавај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вишене гликемије на таште: &gt;6.5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mol/l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вишене постпрандијалне гликемије (2 сата после јела): &gt; 9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mol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овишена вредност гликозилираног хемоглобин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HbA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казатељ метаболичке контроле болести (концентрације гликемије) у претходна 2-3 месеца (8-12 недељ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жељна вредност &lt;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икроалбумину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Синдроми поремећене толеранције глукозе ("предијабетесно стање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FG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Comic Sans MS"/>
              </a:rPr>
              <a:t>Impaired Fasting Glucos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 –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Губитак нормалне гликемија наште (6.1-7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GT (</a:t>
            </a:r>
            <a:r>
              <a:rPr b="0" i="1" lang="sr-Latn-CS" sz="2800" spc="-1" strike="noStrike">
                <a:solidFill>
                  <a:srgbClr val="000000"/>
                </a:solidFill>
                <a:latin typeface="Comic Sans MS"/>
              </a:rPr>
              <a:t>Impaired Glucose Toleranc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 –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мањена толеранција глукозе (гликемија у току ОГТТ теста у 120 минуту: 7.8-11.1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mol/l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Дислипидемије (Хиперлипопротеинемиј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огностички лош профил ("Принцип 5-4-3-2-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Повећан укупни ХОЛЕСТЕРОЛ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&gt;5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mol/l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Повећани ТРИГЛИЦЕРИД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&gt;2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mol/l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Повећан ЛДЛ холестерол*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&gt;3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mol/l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Смањен ХДЛ холестерол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&lt;1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mol/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и томе, од апсолутних вредности масноћа у крви, важнији је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њихов међусобни однос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терогени индекс = укХол / ХД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ко је &gt;5 =&gt;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ризик од КВС комликација (АИ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25040" y="6172200"/>
            <a:ext cx="76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ЛДЛ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(mmol/l)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 = укХОЛ – ХДЛ – ТГЛ/2.2, само ако су ТГЛ&lt;4.5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mmol/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Дислипидемије (Хиперлипопротеинемиј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Фенотипска класификација по Фридриксону (модификована од СЗ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6 типова: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, II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II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III, IV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јчешћи (40-50%):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 и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 тип: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↑↑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ОЛ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ГЛ, висок атерогени риз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тип: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↑↑↑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ГЛ, Н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ОЛ, знатно мањи атерогени ризик од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исок ризик за АТС карактерише и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 и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т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ДЛ је смањен код свих облика (код типа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 може бити и нормал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Остали фактори ризика за кардиоваскуларне комплик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hs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("високосензитивни") ЦРП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&gt;3 мг/л =&gt; висок ризик од КВС комплик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аркер вулнерабилности плака (инфаркт срца, мозга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Хиперурикемиј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↑ мокраћна киселина у крви) – ентитет метаболичког синдрома (гојазнос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иф. Дг: алкохолизам, исхрана, малигне болести (после терапије), бубрежна инсуфицијенција, лек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Хипервискозни синдром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већан ХЕМАТОКРИТ (повећана маса еритроцита, полицитем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изик од артеријских и венских тромбоза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кутни коронарни синдром (АКС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КС: нестабилна ангина пекторис, акутни инфаркт миокарда (са или без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Q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упца у ЕКГ-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ажан критеријум за постављање дијагнозе су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кардиоспецифични ензим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који услед исхемијског оштећења излазе из ћелије у крв (већа вредност = веће оштећењ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јзначајнији за дијагнозу инфаркта срца су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ТРОПОНИНИ И 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2х позитивни у 12 сати код 99% пацијената са инфакт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аздвајају инфаркт (некрозу миокарда) од нестабилне ангине (без некроз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огу бити позитивни и у одсуству повећања других енз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начајна је и ЦПК (креатин-фосфокиназа), посебно њен изоензим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ЦПК-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 специфичан за миокард (ЦПК има и у скелетним мишићи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кутни коронарни синдром (АКС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еспецифични ензими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: миоглобин (велика сензитивност, јавља се први) и ЛДХ (лактатна дехидрогена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Остали маркери и прогностички фактори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Е, ЦРП, леукоцитоза, фибриног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БНП и НТ-проБНП (важни и за дијагнозу и прогнозу срчане инсуфицијен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Анем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Подела анем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рема узроку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бог губитка крви (акутног и хроничн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бог смањене еритропоезе (сидеропенијска, мегалобластна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бог хемолизе (деструкције еритроцита на перифериј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рема изгледу еритроцит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икроцитне-хипохромне: сидеропенијска (дефицит гвожђ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ормоцитне-нормохромне: анемија хроничне болести (инфлама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акроцитне-хиперхромне: мегалобластна (дефицит витамина Б12 или фолне кисели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нализа крвне слике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(I Dg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нив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459000" indent="-29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мањена концентрација хемоглоб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9000" indent="-29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мањен број еритр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9000" indent="-29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мањен хематокр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9000" indent="-29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ремећај еритроцитних индекса: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0320" indent="-27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CV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средња запремина Ер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д дефицита Фе,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↑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од дефицита витамина Б12 или фолне киселин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0320" indent="-278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CH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средња вредност количине Хгб у Ер) -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д деф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0320" indent="-27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CHC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ср. вредност концентрације Хгб у Ер) -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д деф.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0320" indent="-27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DW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(индекс анизоцитозе*) 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↑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од деф. Фе, вит. Б12 и фолне кисел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9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0" i="1" lang="sr-CS" sz="1800" spc="-1" strike="noStrike">
                <a:solidFill>
                  <a:srgbClr val="000000"/>
                </a:solidFill>
                <a:latin typeface="Comic Sans MS"/>
              </a:rPr>
              <a:t>Анизоцитоза – присуство Ер различите величине у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Инфекције - поде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3840" indent="-393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Према врсти проузроковач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Бактеријс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Вирус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Гљивич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Рикецијал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разитарне, укључујући и инфекције изазване протозо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Према клиничком току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кут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убакут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ронич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Болести јет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Хепатоцелуларно оштећ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-696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Узроци: вируси, лекови, токсини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Доминира пораст трансаминаза јетре у крв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услед оштећења хепатоцита, ови ензими излазе у кр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5040" indent="-36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ЛТ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ГПТ) и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СТ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ГОТ): клинички значајно повећање је оно &gt;3 пута изнад горње границе норма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5040" indent="-36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ЛТ специфичнији за јетр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међутим код алкохолног хепатитиса могућ је инверзни однос (АСТ&gt;АЛТ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Са или без жутице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интрахепатичне холестаз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5040" indent="-36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бог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хипербилирубинемије (&gt;2 пута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: претежно коњугов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5040" indent="-36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сва 3 жучна пигмента у урин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билирубин, уробилиноген, уробилин) – "мокраћа боје пива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Холестазно оштећ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оминира пораст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лкалне фосфатазе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ЛП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) у крви (&gt;2 пута), са или без жутице (пораст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билирубин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&gt; 2 пу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ЛП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лаго повећана и код вирусних хепатит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иф. Дг: коштане болести (М.Паџет, малигни тумори и метастазе, хиперпаратиреоидизам, рахитис/остеомалација, зарастање прелома), болести бубрега, цревна обољења, 3. триместар трудноће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Мешовито оштећ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↑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ЛТ + ↑ АЛП, са или без ↑ билируб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ама-глутамил трансфераза (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γ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ГТ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јосетљивији показатељ оштећења јет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ндуцибилни микрозомални ензим (алкохол, лекови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крининг за откривање алкохоличара и индикатор алкохолиса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д акутних вирусних хепатитиса (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↑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5-8 пу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олестазни ензим: код опструктивне жутице* (екстрахепатичне) виш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↑  него код хепатоцелуларног оштећ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пструктивна жутица (иктерус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јчешћи узроци: калкулоза, тумор панкре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крви: ↑ билирубин (коњуговани), АЛП,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γ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Г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У урину: билируб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У столици: нема жучних пигмената (светла-ахолична столица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Показатељи поремећаја синтетске функције јет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1" lang="sv-SE" sz="3200" spc="-1" strike="noStrike">
                <a:solidFill>
                  <a:srgbClr val="000000"/>
                </a:solidFill>
                <a:latin typeface="Comic Sans MS"/>
              </a:rPr>
              <a:t>CHILD – PUGH score’’</a:t>
            </a: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 (лаб.)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мањена концентрација албум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иф. Дг: старост, потхрањеност, гладовање, нефротски синдром, малигне болест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овећан ИНР (продужено протромбинско врем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иф. Дг: опструктивна жу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Хипербилирубинемија (претежно некоњуговани билируб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иф. Дг: хемолиза, опструктивна жу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omic Sans MS"/>
              </a:rPr>
              <a:t>MELD</a:t>
            </a: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sr-Latn-RS" sz="4400" spc="-1" strike="noStrike">
                <a:solidFill>
                  <a:srgbClr val="000000"/>
                </a:solidFill>
                <a:latin typeface="Comic Sans MS"/>
              </a:rPr>
              <a:t>MELD</a:t>
            </a: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Latn-RS" sz="4400" spc="-1" strike="noStrike">
                <a:solidFill>
                  <a:srgbClr val="000000"/>
                </a:solidFill>
                <a:latin typeface="Comic Sans MS"/>
              </a:rPr>
              <a:t>plus</a:t>
            </a: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 ск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За процену тежине хроничне инсуфицијенције јетре код хоспитализованих пациј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Предвиђају ризик од смртног исхода и класификују пацијенте у смислу хитности за трансплантацију јетре/ТИ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Заменили су 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CHILD – PUGH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кор приликом избора приоритетних кандидата за трансплантацију јет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LD –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ерумски билирубин и креатинин, ИН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LD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us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 – критеријум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LD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 скора + серумски натријум, албумин, укупни холестерол, број леукоцита, старост и дужина боравка у болн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Болести бубре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Бубрежна инсуфициј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У крви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аст концентрације УРЕЕ и КРЕАТИНИНА ("азотних материја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РЕАТИНИН је специфичнији показатељ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ј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реа може бити повишена код високопротеинске исхране, крварења, постреналне опструкције протока урин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 основу серумског креатинина може се израчунати његов клиренс помоћу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COCKROFT – GAULT формул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р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 (140–године)*Тежина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kg)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/ (72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р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серум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mg/dl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д жена, множи се са 0.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i="1" lang="sr-Latn-CS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i="1" lang="sr-Latn-CS" sz="2000" spc="-1" strike="noStrike">
                <a:solidFill>
                  <a:srgbClr val="000000"/>
                </a:solidFill>
                <a:latin typeface="Comic Sans MS"/>
              </a:rPr>
              <a:t>mg/dl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= 88.4 микромола/литру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omic Sans MS"/>
              </a:rPr>
              <a:t>Друге формуле за процену бубрежне инсуфицијен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D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KD-EP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ит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Уведене су због непрецизност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COCKROFT – GAULT формуле у процени брзине ГФ и дозирања лекова код 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Обе формуле користе стандардизовану вредност серумског креатини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DMS-calibrated ass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Узимају у обзир старост, пол и расу, изражавају резултат у односу на стандардну Тп (1,73 м</a:t>
            </a:r>
            <a:r>
              <a:rPr b="0" lang="sr-R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) и разликују се по коефицијентима/експонент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KD-EPI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 боље процењује брзину ГФ код здравих ос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KD-EPI </a:t>
            </a:r>
            <a:r>
              <a:rPr b="0" i="1" lang="sr-R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кључује и серумску вредност цистатина Ц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Поремећаји биохемијских параметара кр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од свих инфекција - "Биохуморални запаљенски синдром": убрзана седиментација еритроцита, пораст "реактаната акутне фазе", измене у крвној сл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вај поремећај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ије специфичан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за инфективна обољења, већ се јавља и код других патолошких стања праћених оштећем ткива и запаљењем (инфламацијом): аутоимуних болести (нпр. СЛЕ, РА и др.), акутног панкреатитиса, инфаркта срца, малигних обољења, хемијских и физичких оштећења ткива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Бубрежна инсуфициј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Клиренс креатинина у 24-часовном ур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узданији налаз од концентрације  креатинина у серу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Ккр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(ml/min)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= Кр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урин)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*диуреза / Кр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серум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коригује се за идеалну телесну површину од 1.73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Благ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инсуфицијенција: 20-50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l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Умерен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инсуфицијенција: 10-20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l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Тешк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инсуфицијенција: &lt;10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l/min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Бубрежна инсуфициј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Остали поремећаји (код тежих облика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нем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етаболичка ацид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иперкалем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ипокалцем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иперфосфатем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иперурикемија,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Оштећење бубрега – Налаз ур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отеинурија: већа вредност (масивна) =&gt; теже оштећ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Цилидри у урину: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еукоцитни, епителни, хијалини, гранулисани, масни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Хематуриј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бледи еритроцити: крварење из бубрега, често удружено са протеинуриј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иф. Дг: свежи еритроцити - крварење дистално од бубрега, без протеинур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Кључне пору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Лабораторијске анализе крви и урина су важно помоћно дијагностичко сре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иликом интерпретације налаза (резултата) обавезно уважити све релавантне параметре везане за саму методу и за пациј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Е ЛЕЧИТИ НАЛАЗ (дијагнозу), ВЕЋ ПАЦИЈЕН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Брзина седиментације еритроцита (С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Брзина таложења еритроцита под дејством силе теже (гравитације) када је спречено згрушавање кр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акро и микрометоде мер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зражава у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m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/сат (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са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ормалне вредности нeштo више код жен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ушкарци ≈ 2-6/7-10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жене ≈ 3-8/8-12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Брзина седиментације еритроцита (С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Убрзан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овећан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– углавном због повећања концентрације протеина у крви (Ф, ИГ, ИК, ГП, ЛП), али и код смањења албуми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физиолошки: старост, трудноћа, менструациј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атолошки: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кутне/хроничне инфекц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малигни тумори, тешка анемија, аутоимуне болести, и др. запаљенски и некротички процеси у организ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ормал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мањена СЕ (мањи значај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олести јетре, кахексија, полицитемија, хипоимуноглубулинемија, алергије, лекови (АСК, КС)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Пораст "реактаната акутне фазе" (РАФ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еактанти акутне фазе: протеини чија се концентрација у крви повећава као одговор на повреду или инфек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јачано се синтетишу се у јетри под дејством проинфламаторних цитокина (ИЛ-1, ИЛ-6, ТНФ-алф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мају неспецифичну одбрамбену уло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АФ: Ц-реактивни протеин, фибриноген, прокалцитонин, алфа-1 кисели гликопротеин, алфа-1 антитрипсин, церулоплазмин, Ц-4 компонента комплемент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утински се ме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Ц-реактивни протеин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фибриноген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а у болничким условима и </a:t>
            </a:r>
            <a:r>
              <a:rPr b="1" lang="sr-RS" sz="2400" spc="-1" strike="noStrike">
                <a:solidFill>
                  <a:srgbClr val="000000"/>
                </a:solidFill>
                <a:latin typeface="Comic Sans MS"/>
              </a:rPr>
              <a:t>прокалцитон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Ц-реактивни протеин (ЦРП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зив – везује се за Ц полисахарид ћелијског зида пнеумок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АФ чији се ниво у крви најчешће и најбрже повећава – део природног имуног одго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ик у плазми ≈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48 сати од почетка болести, полуживот 19 сати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Нормална концентрац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: &lt;5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(10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g/l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стандарна мет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Блага инфламација, вирусна инфекц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: 10-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40 (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g/l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али и после напора, код пушача и трудница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ктивна (снажна) инфламација,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бактеријска инфекц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40(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200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Тешка инфекција (сепса)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раума, опекотине: &gt;200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Фибриног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з албумин и глобулине главна беланчевина кр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сновна улога - у згрушавању крви (хемостаз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ормална концентрација: 2-4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себан значај у диференцијалној дијагнози код повећане концентрације у крви: запаљенска реуматска обољења (РА, М. Бехтерев, Акутни урични артритис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ормална (смањена) концентрација: тромбоемболије (ДИК синдром), инсуфицијенција јетре, неке малигне болести (метастазе)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23:00:46Z</dcterms:created>
  <dc:creator>Srdjan Stefanovic</dc:creator>
  <dc:description/>
  <dc:language>en-US</dc:language>
  <cp:lastModifiedBy>User</cp:lastModifiedBy>
  <dcterms:modified xsi:type="dcterms:W3CDTF">2019-09-12T21:45:05Z</dcterms:modified>
  <cp:revision>157</cp:revision>
  <dc:subject/>
  <dc:title>Професионални стандарди за обављање фармацеутске делатности: стандарди добре апотекарске праксе</dc:title>
</cp:coreProperties>
</file>